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DCA2-4357-41D6-AC70-BF27C7548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0537-3758-4B26-AA0B-402D024BD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A625-F07D-4EBC-AE44-8429F9B27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4410-44A0-4696-8175-F4806CF69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F5F2-757A-4BF0-9EDF-74680AA21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239C-D7C7-476B-A2C7-83A672429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7CB9-8035-493F-875B-1EC00A586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9DC6-A67F-4AA6-BE23-0D5803913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4A3B-304E-4A9F-BD99-6589AFBE8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EBAF-8980-4B43-B5AC-FB6025AB1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7BE4-6AD5-4438-85B1-7AB1AF7A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79ED-1FF1-4B7C-86D7-F33A3CC5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B584F-A5F0-4EA7-9D6B-D9B04983D9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arly W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lection Crite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posed criter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roject integrates multiple and mutually supportive farming system components OR builds new partnerships that will facilitate the longer-term RISING research progra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roject involves substantive collaboration between at least three organiz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roject will complete reportable results that further the objectives of Feed the Future by September 30, 201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dditional id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rossing boundaries, one collaborator not a CG cent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velopment partner involv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inkage with existing or previous initiatives, synerg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tes are known and mapp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igned with national progr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uilding partnership platfor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duct participatory diagnostics to determine concrete issues, develop action plans, design pilot activ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vide information baseline for impact assess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t too broad/generic: need focus to be achiev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vide materials needed for next planting seas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vide proposals into numerical results versus steps towards networks/partnerships; consider research and development projects separate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gh-potential propos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Group 1: Catalogue of crop varieties; aflatoxins literature review; catalogue of crop management options; off-season seed produc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Group 2: Inventory of system components; mapping of development actors. Would like to see this kind of process tied to a specific probl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Group 3: Concerned that the important, strategic projects may not be easily reportable. Training farmers to produce certified seed; dissemination of post-harvest technologies; communication, technology transfer, and outreach strategies; nutrient-enhancing recipes in local languages; identification of networks that support extension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9T07:23:25Z</dcterms:created>
  <dc:creator>Windows User</dc:creator>
  <dc:description/>
  <dc:language>en-US</dc:language>
  <cp:lastModifiedBy>eleborgne</cp:lastModifiedBy>
  <dcterms:modified xsi:type="dcterms:W3CDTF">2012-02-09T10:59:21Z</dcterms:modified>
  <cp:revision>4</cp:revision>
  <dc:subject/>
  <dc:title>Early Wins</dc:title>
</cp:coreProperties>
</file>